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1F9-06D5-470C-BB3B-6A63F969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C1C-9ABE-4758-A79C-548F853B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D7D-D745-413D-B4D5-0C01E85F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EE3-A089-40F4-96D3-30D89F37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14ED-003C-40E8-AD29-F533DF3F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BBA7-D2AD-47ED-A899-AC12158D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8F89-036D-47B7-A387-C9E80522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26C9-3F82-4DD1-94FA-FC67C54E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44AE-5B9E-4328-9925-75ED02F8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784A-8716-4D89-B035-B663997B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5A9F-1197-40D9-B6BD-C1DE7E63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0AC-747D-4F50-8461-F2AA15AB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DFFD-853D-47DC-AA44-D10D2B82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29FF-88AC-4D1E-B196-E904F8E4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BD4E-F30C-44A8-89DB-DCDB5DFA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E673-FFA6-44FF-A59E-007A769C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D0A7-6E1E-4AC1-9AC4-A989363C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154-8BDA-40DC-9741-E858B0EF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54E-C221-4D6A-9C64-DC8CB4A9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E88-1DC1-47EC-873C-BB270C6B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A1E-1101-4B35-B780-28D9243E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1A6-3FD3-4750-BC2A-9939CA4F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BEC-085C-4579-AE8B-2C33947A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DC7-7098-4BE6-A394-C93DFE48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0DF1-4DFC-473E-A9CB-77895F19FF9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26CA-B632-4EEC-9948-88418DFE52A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Meiryo"/>
              </a:rPr>
              <a:t>Anwar Absar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19814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Country         :: Pakist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Me in class    ::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 9th art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My interest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    :: cricket, ga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imes New Roman"/>
              </a:rPr>
              <a:t>My favourite subject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:: histor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4724280"/>
            <a:ext cx="6858000" cy="1015920"/>
          </a:xfrm>
          <a:prstGeom prst="rect">
            <a:avLst/>
          </a:prstGeom>
          <a:solidFill>
            <a:srgbClr val="ffcc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akistan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451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2:13Z</dcterms:modified>
  <cp:revision>17</cp:revision>
  <dc:subject/>
  <dc:title>MR. HAROON </dc:title>
</cp:coreProperties>
</file>